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A64E-FDF1-40BC-BF62-219337C14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805C-3BFE-4C6B-81A8-39ACE8E19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DE20-3B59-4E28-8CE9-2D79845CA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8216-D13D-4002-AF2C-61418A79A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178D-3426-4F7C-BA7B-FBD6C4B0F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C80D-E435-4754-AFFC-C25254E43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61CA-E617-49E1-BF31-96488B4D3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A203-D55A-4FC9-BD35-B6FDCD617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80D7-4305-4D87-9A1A-66A00C22B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FCA9-E619-44D3-AC19-94A933DA0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97CB-2298-444A-9F9A-E31AA7DD3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E314-5453-4017-887E-209F0A97F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2F6D5-8EBC-4CC8-B908-6C6CEF9006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038480" y="0"/>
            <a:ext cx="7620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304920"/>
            <a:ext cx="3962520" cy="70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تعالوا إلى مائدة الرب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نستقِ من منبعِ الحب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ها قد حان وقتُ اللقا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صوتُ الرب ينادينا</a:t>
            </a:r>
            <a:r>
              <a:rPr b="0" lang="ar-SA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191120" y="0"/>
            <a:ext cx="77724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304920"/>
            <a:ext cx="3962520" cy="90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من يأكل من خبزك يا سيد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يرث الحياة الأبدي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ربَّنا، ربَّنا، أعطنا خبزكَ، دوماً أعطنا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276720" y="0"/>
            <a:ext cx="761976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0"/>
            <a:ext cx="3276720" cy="9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تعالوا إلى مائدة الرب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نلجأ من وحشة الحرب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في القربان ملك السلا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فيه ملء أمانينا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191120" y="0"/>
            <a:ext cx="77724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304920"/>
            <a:ext cx="3962520" cy="90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من يأكل من خبزك يا سيد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يرث الحياة الأبدي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ربَّنا، ربَّنا، أعطنا خبزكَ، دوماً أعطنا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133720" y="0"/>
            <a:ext cx="761976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0"/>
            <a:ext cx="2514600" cy="83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تعالوا إلى مائدة الر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نهتدِ في ظلمةِ الدر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هو الرب آتٍ يجو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يُشبعنا ويَهدينا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191120" y="0"/>
            <a:ext cx="77724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304920"/>
            <a:ext cx="3962520" cy="90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من يأكل من خبزك يا سيد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يرث الحياة الأبدي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ربَّنا، ربَّنا، أعطنا خبزكَ، دوماً أعطنا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962520" y="0"/>
            <a:ext cx="509256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0"/>
            <a:ext cx="3809880" cy="68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تعالوا إلى وليمة الرب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نشرب من خمرة الحب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كأس الحياة طاب لنا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فاض من قلب فادينا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191120" y="0"/>
            <a:ext cx="77724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304920"/>
            <a:ext cx="3962520" cy="90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من يأكل من خبزك يا سيد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يرث الحياة الأبدي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ربَّنا، ربَّنا، أعطنا خبزكَ، دوماً أعطنا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7T07:14:02Z</dcterms:created>
  <dc:creator>SUZANNE.MD</dc:creator>
  <dc:description/>
  <dc:language>en-US</dc:language>
  <cp:lastModifiedBy>HANI SAFI</cp:lastModifiedBy>
  <dcterms:modified xsi:type="dcterms:W3CDTF">2003-04-17T11:12:44Z</dcterms:modified>
  <cp:revision>2</cp:revision>
  <dc:subject/>
  <dc:title>PowerPoint Presentation</dc:title>
</cp:coreProperties>
</file>